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40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9.jpeg" ContentType="image/jpe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3808413" cy="304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EE28-A222-4D8E-9DBB-576C4F642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5840" y="269640"/>
            <a:ext cx="3238560" cy="50796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5840" y="879480"/>
            <a:ext cx="3238560" cy="87228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5840" y="1834920"/>
            <a:ext cx="3238560" cy="87228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3331-1FEC-4D27-957C-F819FC14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5840" y="269640"/>
            <a:ext cx="3238560" cy="50796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5840" y="879480"/>
            <a:ext cx="1580400" cy="87228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45800" y="879480"/>
            <a:ext cx="1580400" cy="87228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5840" y="1834920"/>
            <a:ext cx="1580400" cy="87228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945800" y="1834920"/>
            <a:ext cx="1580400" cy="87228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5D97-3A9C-46CC-AE03-6A055EBE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5840" y="269640"/>
            <a:ext cx="3238560" cy="50796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5840" y="879480"/>
            <a:ext cx="1042560" cy="87228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80960" y="879480"/>
            <a:ext cx="1042560" cy="87228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76080" y="879480"/>
            <a:ext cx="1042560" cy="87228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5840" y="1834920"/>
            <a:ext cx="1042560" cy="87228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80960" y="1834920"/>
            <a:ext cx="1042560" cy="87228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76080" y="1834920"/>
            <a:ext cx="1042560" cy="87228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4DA1-77C3-4DF8-A100-CAEBC19A2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5840" y="269640"/>
            <a:ext cx="3238560" cy="50796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5840" y="879480"/>
            <a:ext cx="323856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A9C7-985F-4C90-8D8C-3C3C972E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5840" y="269640"/>
            <a:ext cx="3238560" cy="50796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5840" y="879480"/>
            <a:ext cx="3238560" cy="182880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072A-628A-432B-9904-D3C3FFDA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5840" y="269640"/>
            <a:ext cx="3238560" cy="50796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879480"/>
            <a:ext cx="1580400" cy="182880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945800" y="879480"/>
            <a:ext cx="1580400" cy="182880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0D92-9576-4FAD-810F-41FCDAE5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5840" y="269640"/>
            <a:ext cx="3238560" cy="50796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BEF7-54A3-406F-9E33-E57C364D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5840" y="269640"/>
            <a:ext cx="323856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5A6F-8B1D-4A23-BBF7-9D6959DA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5840" y="269640"/>
            <a:ext cx="3238560" cy="50796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5840" y="879480"/>
            <a:ext cx="1580400" cy="87228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945800" y="879480"/>
            <a:ext cx="1580400" cy="182880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5840" y="1834920"/>
            <a:ext cx="1580400" cy="87228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D72C-5DBC-4606-B880-87319C9C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5840" y="269640"/>
            <a:ext cx="3238560" cy="50796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5840" y="879480"/>
            <a:ext cx="1580400" cy="182880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945800" y="879480"/>
            <a:ext cx="1580400" cy="87228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45800" y="1834920"/>
            <a:ext cx="1580400" cy="87228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3682-2B90-4D45-8ADD-36B7191C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5840" y="269640"/>
            <a:ext cx="3238560" cy="50796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5840" y="879480"/>
            <a:ext cx="1580400" cy="87228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45800" y="879480"/>
            <a:ext cx="1580400" cy="87228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5840" y="1834920"/>
            <a:ext cx="3238560" cy="87228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3A74-404B-4DC7-BA62-8A569F4B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5840" y="269640"/>
            <a:ext cx="3238560" cy="50796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879480"/>
            <a:ext cx="3238560" cy="182880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rmAutofit/>
          </a:bodyPr>
          <a:p>
            <a:pPr marL="154080" indent="-154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1920" indent="-1288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511200" indent="-1033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714240" indent="-10152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917640" indent="-10008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917640" indent="-10008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917640" indent="-10008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5480" y="2778120"/>
            <a:ext cx="793800" cy="20304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Autofit/>
          </a:bodyPr>
          <a:lstStyle>
            <a:lvl1pPr indent="0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01400" y="2778120"/>
            <a:ext cx="1206360" cy="20304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Autofit/>
          </a:bodyPr>
          <a:lstStyle>
            <a:lvl1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730240" y="2778120"/>
            <a:ext cx="793800" cy="203040"/>
          </a:xfrm>
          <a:prstGeom prst="rect">
            <a:avLst/>
          </a:prstGeom>
          <a:noFill/>
          <a:ln w="0">
            <a:noFill/>
          </a:ln>
        </p:spPr>
        <p:txBody>
          <a:bodyPr lIns="40680" rIns="40680" tIns="20520" bIns="20520" anchor="t">
            <a:noAutofit/>
          </a:bodyPr>
          <a:lstStyle>
            <a:lvl1pPr indent="0" algn="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fld id="{134C66E7-B012-469C-A76B-69731A1F1A41}" type="slidenum"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44600" y="812880"/>
            <a:ext cx="276228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chte Vögel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kotzen nich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2422440" cy="1954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1029"/>
          <a:stretch/>
        </p:blipFill>
        <p:spPr>
          <a:xfrm>
            <a:off x="762120" y="533520"/>
            <a:ext cx="2485800" cy="1952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562"/>
          <a:stretch/>
        </p:blipFill>
        <p:spPr>
          <a:xfrm>
            <a:off x="762120" y="533520"/>
            <a:ext cx="2454120" cy="1904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1069"/>
          <a:stretch/>
        </p:blipFill>
        <p:spPr>
          <a:xfrm>
            <a:off x="685800" y="533520"/>
            <a:ext cx="2451240" cy="1904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6911"/>
          <a:stretch/>
        </p:blipFill>
        <p:spPr>
          <a:xfrm>
            <a:off x="762120" y="609480"/>
            <a:ext cx="2447640" cy="1752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2241"/>
          <a:stretch/>
        </p:blipFill>
        <p:spPr>
          <a:xfrm>
            <a:off x="762120" y="609480"/>
            <a:ext cx="2374920" cy="1863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2394000" cy="15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1187"/>
          <a:stretch/>
        </p:blipFill>
        <p:spPr>
          <a:xfrm>
            <a:off x="762120" y="533520"/>
            <a:ext cx="2385720" cy="1981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2504880" cy="1986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2428920" cy="1949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10862" b="641"/>
          <a:stretch/>
        </p:blipFill>
        <p:spPr>
          <a:xfrm>
            <a:off x="762120" y="914400"/>
            <a:ext cx="2181240" cy="1346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1385640" cy="1027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2869"/>
          <a:stretch/>
        </p:blipFill>
        <p:spPr>
          <a:xfrm>
            <a:off x="762120" y="533520"/>
            <a:ext cx="2442960" cy="1828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3497"/>
          <a:stretch/>
        </p:blipFill>
        <p:spPr>
          <a:xfrm>
            <a:off x="838080" y="609480"/>
            <a:ext cx="2425680" cy="1752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3830"/>
          <a:stretch/>
        </p:blipFill>
        <p:spPr>
          <a:xfrm>
            <a:off x="762120" y="609480"/>
            <a:ext cx="2388960" cy="1676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2371680" cy="1882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2457360" cy="1938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1622"/>
          <a:stretch/>
        </p:blipFill>
        <p:spPr>
          <a:xfrm>
            <a:off x="762120" y="533520"/>
            <a:ext cx="2371680" cy="1828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4291"/>
          <a:stretch/>
        </p:blipFill>
        <p:spPr>
          <a:xfrm>
            <a:off x="914400" y="685800"/>
            <a:ext cx="2036880" cy="15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0" b="3670"/>
          <a:stretch/>
        </p:blipFill>
        <p:spPr>
          <a:xfrm>
            <a:off x="762120" y="533520"/>
            <a:ext cx="2411280" cy="1752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2425680" cy="189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525760" cy="1967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2428920" cy="1973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20454" t="44331" r="25006" b="1135"/>
          <a:stretch/>
        </p:blipFill>
        <p:spPr>
          <a:xfrm>
            <a:off x="1066680" y="838080"/>
            <a:ext cx="1828800" cy="1382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2479680" cy="1947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2385720" cy="1928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20454" t="44331" r="25006" b="1135"/>
          <a:stretch/>
        </p:blipFill>
        <p:spPr>
          <a:xfrm>
            <a:off x="1066680" y="838080"/>
            <a:ext cx="1828800" cy="1382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0" r="0" b="5180"/>
          <a:stretch/>
        </p:blipFill>
        <p:spPr>
          <a:xfrm>
            <a:off x="762120" y="533520"/>
            <a:ext cx="2408040" cy="1828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0" r="0" b="4191"/>
          <a:stretch/>
        </p:blipFill>
        <p:spPr>
          <a:xfrm>
            <a:off x="838080" y="685800"/>
            <a:ext cx="2278080" cy="15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0" b="3668"/>
          <a:stretch/>
        </p:blipFill>
        <p:spPr>
          <a:xfrm>
            <a:off x="685800" y="609480"/>
            <a:ext cx="2378160" cy="1752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0" r="0" b="1448"/>
          <a:stretch/>
        </p:blipFill>
        <p:spPr>
          <a:xfrm>
            <a:off x="685800" y="380880"/>
            <a:ext cx="2471760" cy="197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0" b="1543"/>
          <a:stretch/>
        </p:blipFill>
        <p:spPr>
          <a:xfrm>
            <a:off x="762120" y="533520"/>
            <a:ext cx="2422440" cy="185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76280" y="473040"/>
            <a:ext cx="2701800" cy="2114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2439720" cy="1892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2400120" cy="1904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2357280" cy="1796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2422440" cy="2092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2408400" cy="1798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0" r="0" b="1899"/>
          <a:stretch/>
        </p:blipFill>
        <p:spPr>
          <a:xfrm>
            <a:off x="914400" y="685800"/>
            <a:ext cx="2178000" cy="1549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2368800" cy="1796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2389320" cy="1765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3999" t="0" r="0" b="0"/>
          <a:stretch/>
        </p:blipFill>
        <p:spPr>
          <a:xfrm>
            <a:off x="0" y="693720"/>
            <a:ext cx="3809880" cy="1596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54"/>
          <a:stretch/>
        </p:blipFill>
        <p:spPr>
          <a:xfrm>
            <a:off x="571680" y="441360"/>
            <a:ext cx="2631960" cy="2073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2432160" cy="1871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265"/>
          <a:stretch/>
        </p:blipFill>
        <p:spPr>
          <a:xfrm>
            <a:off x="685800" y="609480"/>
            <a:ext cx="2400480" cy="1791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2397240" cy="1913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3962160" cy="3143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9T18:19:32Z</dcterms:created>
  <dc:creator>Echter Vogel</dc:creator>
  <dc:description/>
  <dc:language>en-US</dc:language>
  <cp:lastModifiedBy>Norbert Höbelt</cp:lastModifiedBy>
  <dcterms:modified xsi:type="dcterms:W3CDTF">2004-09-24T08:43:51Z</dcterms:modified>
  <cp:revision>9</cp:revision>
  <dc:subject/>
  <dc:title>Echte Vögel kotzen nicht</dc:title>
</cp:coreProperties>
</file>