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9.jpeg" ContentType="image/jpe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3808413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E4C-A6CB-4C03-BAFE-4EC029B9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840" y="879480"/>
            <a:ext cx="323856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840" y="1834920"/>
            <a:ext cx="323856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F41-0FC2-49C3-984A-95A26A18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87948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45800" y="87948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840" y="183492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45800" y="183492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04B-D23A-41CE-A4BE-451E3455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840" y="879480"/>
            <a:ext cx="104256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80960" y="879480"/>
            <a:ext cx="104256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76080" y="879480"/>
            <a:ext cx="104256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840" y="1834920"/>
            <a:ext cx="104256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80960" y="1834920"/>
            <a:ext cx="104256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76080" y="1834920"/>
            <a:ext cx="104256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9D0-6CCF-4E96-93D6-DC190625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840" y="879480"/>
            <a:ext cx="32385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E59-D69A-4147-864D-3C2E3DFC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840" y="879480"/>
            <a:ext cx="3238560" cy="182880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7B76-253F-41C7-8CD2-D99F4E2A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879480"/>
            <a:ext cx="1580400" cy="182880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45800" y="879480"/>
            <a:ext cx="1580400" cy="182880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51E3-973A-45CA-8AE9-A0109378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956-35E8-40A1-84D4-05DC7C49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69640"/>
            <a:ext cx="32385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9F2-A702-425A-9361-C2C61423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840" y="87948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45800" y="879480"/>
            <a:ext cx="1580400" cy="182880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840" y="183492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351-D8C9-4F43-8E57-A1F28E31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840" y="879480"/>
            <a:ext cx="1580400" cy="182880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45800" y="87948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5800" y="183492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5E13-C6EC-4565-A2CA-B38BF2C2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840" y="87948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45800" y="87948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840" y="1834920"/>
            <a:ext cx="323856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1A7-7C75-4CE8-B578-4CA14B32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879480"/>
            <a:ext cx="3238560" cy="182880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marL="154080" indent="-154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88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11200" indent="-1033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714240" indent="-101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917640" indent="-100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917640" indent="-100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917640" indent="-100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5480" y="2778120"/>
            <a:ext cx="793800" cy="20304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Autofit/>
          </a:bodyPr>
          <a:lstStyle>
            <a:lvl1pPr indent="0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01400" y="2778120"/>
            <a:ext cx="1206360" cy="20304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Autofit/>
          </a:bodyPr>
          <a:lstStyle>
            <a:lvl1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30240" y="2778120"/>
            <a:ext cx="793800" cy="20304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Autofit/>
          </a:bodyPr>
          <a:lstStyle>
            <a:lvl1pPr indent="0" algn="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fld id="{C103D8C3-5A48-44D1-8E87-C3BF4BCFF70E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44600" y="812880"/>
            <a:ext cx="276228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chte Vöge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kotzen nich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422440" cy="1954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029"/>
          <a:stretch/>
        </p:blipFill>
        <p:spPr>
          <a:xfrm>
            <a:off x="762120" y="533520"/>
            <a:ext cx="2485800" cy="1952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562"/>
          <a:stretch/>
        </p:blipFill>
        <p:spPr>
          <a:xfrm>
            <a:off x="762120" y="533520"/>
            <a:ext cx="2454120" cy="190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1069"/>
          <a:stretch/>
        </p:blipFill>
        <p:spPr>
          <a:xfrm>
            <a:off x="685800" y="533520"/>
            <a:ext cx="2451240" cy="190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6911"/>
          <a:stretch/>
        </p:blipFill>
        <p:spPr>
          <a:xfrm>
            <a:off x="762120" y="609480"/>
            <a:ext cx="2447640" cy="175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2241"/>
          <a:stretch/>
        </p:blipFill>
        <p:spPr>
          <a:xfrm>
            <a:off x="762120" y="609480"/>
            <a:ext cx="2374920" cy="1863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239400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187"/>
          <a:stretch/>
        </p:blipFill>
        <p:spPr>
          <a:xfrm>
            <a:off x="762120" y="533520"/>
            <a:ext cx="2385720" cy="198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504880" cy="1986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428920" cy="1949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10862" b="641"/>
          <a:stretch/>
        </p:blipFill>
        <p:spPr>
          <a:xfrm>
            <a:off x="762120" y="914400"/>
            <a:ext cx="2181240" cy="1346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1385640" cy="102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2869"/>
          <a:stretch/>
        </p:blipFill>
        <p:spPr>
          <a:xfrm>
            <a:off x="762120" y="533520"/>
            <a:ext cx="244296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3497"/>
          <a:stretch/>
        </p:blipFill>
        <p:spPr>
          <a:xfrm>
            <a:off x="838080" y="609480"/>
            <a:ext cx="2425680" cy="175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3830"/>
          <a:stretch/>
        </p:blipFill>
        <p:spPr>
          <a:xfrm>
            <a:off x="762120" y="609480"/>
            <a:ext cx="2388960" cy="1676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2371680" cy="188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2457360" cy="1938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1622"/>
          <a:stretch/>
        </p:blipFill>
        <p:spPr>
          <a:xfrm>
            <a:off x="762120" y="533520"/>
            <a:ext cx="237168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4291"/>
          <a:stretch/>
        </p:blipFill>
        <p:spPr>
          <a:xfrm>
            <a:off x="914400" y="685800"/>
            <a:ext cx="203688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3670"/>
          <a:stretch/>
        </p:blipFill>
        <p:spPr>
          <a:xfrm>
            <a:off x="762120" y="533520"/>
            <a:ext cx="2411280" cy="1752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2425680" cy="189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25760" cy="1967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2428920" cy="197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20454" t="44331" r="25006" b="1135"/>
          <a:stretch/>
        </p:blipFill>
        <p:spPr>
          <a:xfrm>
            <a:off x="1066680" y="838080"/>
            <a:ext cx="1828800" cy="1382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2479680" cy="194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2385720" cy="1928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20454" t="44331" r="25006" b="1135"/>
          <a:stretch/>
        </p:blipFill>
        <p:spPr>
          <a:xfrm>
            <a:off x="1066680" y="838080"/>
            <a:ext cx="1828800" cy="1382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5180"/>
          <a:stretch/>
        </p:blipFill>
        <p:spPr>
          <a:xfrm>
            <a:off x="762120" y="533520"/>
            <a:ext cx="240804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4191"/>
          <a:stretch/>
        </p:blipFill>
        <p:spPr>
          <a:xfrm>
            <a:off x="838080" y="685800"/>
            <a:ext cx="227808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0" b="3668"/>
          <a:stretch/>
        </p:blipFill>
        <p:spPr>
          <a:xfrm>
            <a:off x="685800" y="609480"/>
            <a:ext cx="2378160" cy="175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1448"/>
          <a:stretch/>
        </p:blipFill>
        <p:spPr>
          <a:xfrm>
            <a:off x="685800" y="380880"/>
            <a:ext cx="2471760" cy="197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1543"/>
          <a:stretch/>
        </p:blipFill>
        <p:spPr>
          <a:xfrm>
            <a:off x="762120" y="533520"/>
            <a:ext cx="2422440" cy="185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6280" y="473040"/>
            <a:ext cx="2701800" cy="211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439720" cy="1892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400120" cy="190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357280" cy="1796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2422440" cy="209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2408400" cy="1798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0" b="1899"/>
          <a:stretch/>
        </p:blipFill>
        <p:spPr>
          <a:xfrm>
            <a:off x="914400" y="685800"/>
            <a:ext cx="2178000" cy="1549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2368800" cy="1796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2389320" cy="1765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3999" t="0" r="0" b="0"/>
          <a:stretch/>
        </p:blipFill>
        <p:spPr>
          <a:xfrm>
            <a:off x="0" y="693720"/>
            <a:ext cx="3809880" cy="159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54"/>
          <a:stretch/>
        </p:blipFill>
        <p:spPr>
          <a:xfrm>
            <a:off x="571680" y="441360"/>
            <a:ext cx="2631960" cy="207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2432160" cy="187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265"/>
          <a:stretch/>
        </p:blipFill>
        <p:spPr>
          <a:xfrm>
            <a:off x="685800" y="609480"/>
            <a:ext cx="2400480" cy="179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2397240" cy="191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3962160" cy="314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18:19:32Z</dcterms:created>
  <dc:creator>Echter Vogel</dc:creator>
  <dc:description/>
  <dc:language>en-US</dc:language>
  <cp:lastModifiedBy>Norbert Höbelt</cp:lastModifiedBy>
  <dcterms:modified xsi:type="dcterms:W3CDTF">2004-09-24T08:43:51Z</dcterms:modified>
  <cp:revision>9</cp:revision>
  <dc:subject/>
  <dc:title>Echte Vögel kotzen nicht</dc:title>
</cp:coreProperties>
</file>